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2C6C-5B78-47A1-A3FD-A90E967E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878D-8DCA-4377-A360-545FE80C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27C4-0BEE-4CF1-800E-EB369F13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9229-6C09-4C22-8FE0-6AEA1E93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E95B-04B2-4435-BD15-8634A6BF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8E46-C9B4-429E-A4DA-AD0F19CF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6294-1339-403D-8A92-59FE7BFC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02E0-7CFD-47CB-918F-7C05DACC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763D-2E96-4F63-BAD0-9E66FFEE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DD41-E816-418F-B456-79900949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F12-2E46-44E6-9A1E-07847DE9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C1B8-14D8-4A98-AE4A-4C56AB6E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87D0-31CC-419A-979F-3AD91CBC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560F-AFBC-4622-B6A5-23C146FF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DE7D-B14C-4ED6-AE5B-71A3D1FE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5AFD-F90A-448D-90D2-E551237D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3837-33F1-4365-BA4C-528D1F09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9E14-DF80-4CFE-B694-31AD5A89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3575-F90D-4DC6-BAB6-89302C20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9F64-DC14-44A6-8FD1-27BBC845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4579-2EB6-4F90-B363-FD90CA38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F332-6F68-4899-8E59-BC12AE9E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E21D-AE78-4232-BD4F-15C2EB2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B25E-43B3-4576-B75A-806C7AB8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DC5F-89BE-46F0-B4B3-9605BF6BD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9A8C-879B-47D3-836D-B61261832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EE67-553F-43FE-9965-AA399A775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3:02Z</dcterms:modified>
  <cp:revision>67</cp:revision>
  <dc:subject/>
  <dc:title>CAP Cryptographic Analysis Program</dc:title>
</cp:coreProperties>
</file>